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D7F-D980-4C58-BB7C-812007867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F1C-346D-48C8-A390-78F41021E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91A-7065-43E7-BC85-67A5A6615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450-30DE-49A0-9D4F-8F6FD625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8C6-7509-4989-9130-A7A5E5D4D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251E-0CA2-41DE-BD79-22F5760A4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0617-0F2A-4AF1-96AB-B1836683C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59B9-3A8F-413B-9C4F-B2C157580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F12-FBC7-49A2-AF8B-DA997C7C9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52F-9B38-4922-BC40-A6EEB4EA8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8CD-2B0F-4C85-A23E-8F05EAD46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406F-F976-45E5-8415-932C01068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BE98-03C0-41C7-BE6E-43413D7DE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8EB-A4AA-45A4-B3C5-E2B22C2E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496-0B3D-416A-9283-124D866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FE7-EA07-44ED-AF0A-7B68DE85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03D-405A-4018-949C-201D5E1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4E1-4787-43B2-B49A-1A7A0C3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CA3-62EB-45F6-A324-88FB09E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678-1B95-46B6-8251-B7391F2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663-8BEC-4180-9F92-9EFC4CB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8F6-3EC5-47FA-9054-18645BB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9B8-2E6E-4D12-B6D8-F87C8AE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1DC-6425-4FBF-8C61-CEDC22B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816-06EC-4E22-A81E-AA94F88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E8D-4FC5-4CFF-B7CF-BF86B4FB2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rolinagolflinks.com/images/wilmington__nc.jpg&amp;imgrefurl=http://www.carolinagolflinks.com/NC_Courses.html&amp;usg=__gLQfjy0AIYuxhPeUR58u54nbd_Q=&amp;h=805&amp;w=1200&amp;sz=520&amp;hl=en&amp;start=0&amp;zoom=1&amp;tbnid=8Lo1H41yMYJ4VM:&amp;tbnh=164&amp;tbnw=214&amp;prev=/images%3Fq%3Dwilmington,%2Bnc%26um%3D1%26hl%3Den%26rlz%3D1G1GGLQ_ENUS312%26biw%3D1280%26bih%3D683%26tbs%3Disch:1&amp;um=1&amp;itbs=1&amp;iact=rc&amp;dur=410&amp;ei=gGdxTNWgL8H38AaqxOX9Cg&amp;oei=gGdxTNWgL8H38AaqxOX9Cg&amp;esq=1&amp;page=1&amp;ndsp=15&amp;ved=1t:429,r:5,s:0&amp;tx=93&amp;ty=135" TargetMode="External"/><Relationship Id="rId2" Type="http://schemas.openxmlformats.org/officeDocument/2006/relationships/hyperlink" Target="file:///=gGdxTNWgL8H38AaqxOX9Cg&amp;esq=1&amp;page=1&amp;ndsp=15&amp;ved=1t:429,r:5,s:0&amp;tx=93&amp;ty=135" TargetMode="External"/><Relationship Id="rId3" Type="http://schemas.openxmlformats.org/officeDocument/2006/relationships/hyperlink" Target="http://www.google.com/imgres?imgurl=http://www.ryancombs.com/image/UNCG_Logo.gif&amp;imgrefurl=http://www.ryancombs.com/edu.htm&amp;usg=__Bb4ANtJJ_2JwjTXG0UaW5FpmoDM=&amp;h=168&amp;w=180&amp;sz=9&amp;hl=en&amp;start=0&amp;zoom=1&amp;tbnid=IijmwJavMV9iGM:&amp;tbnh=134&amp;tbnw=144&amp;prev=/images%3Fq%3Duncg%26um%3D1%26hl%3Den%26rlz%3D1G1GGLQ_ENUS312%26biw%3D1280%26bih%3D683%26tbs%3Disch:10,200&amp;um=1&amp;itbs=1&amp;iact=rc&amp;dur=319&amp;ei=pWdxTLi1A8T38AbC5JnyCg&amp;oei=pWdxTLi1A8T38AbC5JnyCg&amp;esq=1&amp;page=1&amp;ndsp=16&amp;ved=1t:429,r:13,s:0&amp;tx=107&amp;ty=56&amp;biw=1280&amp;bih=683" TargetMode="External"/><Relationship Id="rId4" Type="http://schemas.openxmlformats.org/officeDocument/2006/relationships/hyperlink" Target="file:///AbC5JnyCg&amp;esq=1&amp;page=1&amp;ndsp=16&amp;ved=1t:429,r:13,s:0&amp;tx=107&amp;ty=56&amp;biw=1280&amp;bih=683" TargetMode="External"/><Relationship Id="rId5" Type="http://schemas.openxmlformats.org/officeDocument/2006/relationships/hyperlink" Target="http://www.google.com/imgres?imgurl=http://ure.uncg.edu/inspirechange/wp-content/uploads/2009/11/euc_ttl.jpg&amp;imgrefurl=http://ure.uncg.edu/inspirechange/2009/11/center-of-it-all/&amp;usg=__3nAapPCOBVe16HmRt4Rir4I4gng=&amp;h=469&amp;w=612&amp;sz=48&amp;hl=en&amp;start=0&amp;zoom=1&amp;tbnid=ED6CAVnQ_s80IM:&amp;tbnh=120&amp;tbnw=168&amp;prev=/images%3Fq%3Duncg-%2Beuc%26um%3D1%26hl%3Den%26rlz%3D1G1GGLQ_ENUS312%26biw%3D1280%26bih%3D683%26tbs%3Disch:1&amp;um=1&amp;itbs=1&amp;iact=hc&amp;vpx=670&amp;vpy=79&amp;dur=267&amp;hovh=135&amp;hovw=177&amp;tx=105&amp;ty=101&amp;ei=02dxTKGHLcP98Aakk534Cg&amp;oei=02dxTKGHLcP98Aakk534Cg&amp;esq=1&amp;page=1&amp;ndsp=26&amp;ved=1t:429,r:3,s:0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458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Lucida Handwriting"/>
              </a:rPr>
              <a:t>All About Ms. Bat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July 17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21004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I love working with studen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9" descr="DSCN1792.JPG"/>
          <p:cNvPicPr/>
          <p:nvPr/>
        </p:nvPicPr>
        <p:blipFill>
          <a:blip r:embed="rId1"/>
          <a:stretch/>
        </p:blipFill>
        <p:spPr>
          <a:xfrm>
            <a:off x="1066680" y="11430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Script MT Bold"/>
            </a:endParaRPr>
          </a:p>
        </p:txBody>
      </p:sp>
      <p:pic>
        <p:nvPicPr>
          <p:cNvPr id="98" name="Picture 4" descr="DSCN2224.JPG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1371600" y="3708360"/>
            <a:ext cx="21906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google.com/imgres?imgurl=http://www.carolinagolflinks.com/images/wilmington__nc.jpg&amp;imgrefurl=http://www.carolinagolflinks.com/NC_Courses.html&amp;usg=__gLQfjy0AIYuxhPeUR58u54nbd_Q=&amp;h=805&amp;w=1200&amp;sz=520&amp;hl=en&amp;start=0&amp;zoom=1&amp;tbnid=8Lo1H41yMYJ4VM:&amp;tbnh=164&amp;tbnw=214&amp;prev=/images%3Fq%3Dwilmington,%2Bnc%26um%3D1%26hl%3Den%26rlz%3D1G1GGLQ_ENUS312%26biw%3D1280%26bih%3D683%26tbs%3Disch:1&amp;um=1&amp;itbs=1&amp;iact=rc&amp;dur=410&amp;ei=gGdxTNWgL8H38AaqxOX9Cg&amp;oei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=gGdxTNWgL8H38AaqxOX9Cg&amp;esq=1&amp;page=1&amp;ndsp=15&amp;ved=1t:429,r:5,s:0&amp;tx=93&amp;ty=1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google.com/imgres?imgurl=http://www.ryancombs.com/image/UNCG_Logo.gif&amp;imgrefurl=http://www.ryancombs.com/edu.htm&amp;usg=__Bb4ANtJJ_2JwjTXG0UaW5FpmoDM=&amp;h=168&amp;w=180&amp;sz=9&amp;hl=en&amp;start=0&amp;zoom=1&amp;tbnid=IijmwJavMV9iGM:&amp;tbnh=134&amp;tbnw=144&amp;prev=/images%3Fq%3Duncg%26um%3D1%26hl%3Den%26rlz%3D1G1GGLQ_ENUS312%26biw%3D1280%26bih%3D683%26tbs%3Disch:10,200&amp;um=1&amp;itbs=1&amp;iact=rc&amp;dur=319&amp;ei=pWdxTLi1A8T38AbC5JnyCg&amp;oei=pWdxTLi1A8T38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AbC5JnyCg&amp;esq=1&amp;page=1&amp;ndsp=16&amp;ved=1t:429,r:13,s:0&amp;tx=107&amp;ty=56&amp;biw=1280&amp;bih=68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google.com/imgres?imgurl=http://ure.uncg.edu/inspirechange/wp-content/uploads/2009/11/euc_ttl.jpg&amp;imgrefurl=http://ure.uncg.edu/inspirechange/2009/11/center-of-it-all/&amp;usg=__3nAapPCOBVe16HmRt4Rir4I4gng=&amp;h=469&amp;w=612&amp;sz=48&amp;hl=en&amp;start=0&amp;zoom=1&amp;tbnid=ED6CAVnQ_s80IM:&amp;tbnh=120&amp;tbnw=168&amp;prev=/images%3Fq%3Duncg-%2Beuc%26um%3D1%26hl%3Den%26rlz%3D1G1GGLQ_ENUS312%26biw%3D1280%26bih%3D683%26tbs%3Disch:1&amp;um=1&amp;itbs=1&amp;iact=hc&amp;vpx=670&amp;vpy=79&amp;dur=267&amp;hovh=135&amp;hovw=177&amp;tx=105&amp;ty=101&amp;ei=02dxTKGHLcP98Aakk534Cg&amp;oei=02dxTKGHLcP98Aakk534Cg&amp;esq=1&amp;page=1&amp;ndsp=26&amp;ved=1t:429,r:3,s: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Corbel"/>
              </a:rPr>
              <a:t>http://www.google.com/imgres?imgurl=http://2.bp.blogspot.com/_9Ah69a4ImCA/SxFo43KLDWI/AAAAAAAAA6U/RW6Q7P8m-9g/s1600/toy-story-3-560x314.jpg&amp;imgrefurl=http://notinmybook.blogspot.com/&amp;usg=__aWKq4yHH9Bv0A--Hh2fQdnwerF8=&amp;h=314&amp;w=560&amp;sz=45&amp;hl=en&amp;start=0&amp;zoom=1&amp;tbnid=QfOCDPMq4a3QeM:&amp;tbnh=130&amp;tbnw=162&amp;prev=/images%3Fq%3Dtoy%2Bstory%2B3%26um%3D1%26hl%3Den%26sa%3DN%26rlz%3D1G1GGLQ_ENUS312%26biw%3D1280%26bih%3D683%26tbs%3Disch:1&amp;um=1&amp;itbs=1&amp;iact=rc&amp;dur=517&amp;ei=K2dxTMPXJYG88gbrstH8Cg&amp;oei=K2dxTMPXJYG88gbrstH8Cg&amp;esq=1&amp;page=1&amp;ndsp=20&amp;ved=1t:429,r:19,s:0&amp;tx=68&amp;ty=5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grew up on the coast of North Carolina in Wilmington.</a:t>
            </a:r>
            <a:r>
              <a:rPr b="0" lang="en-US" sz="4000" spc="-1" strike="noStrike">
                <a:solidFill>
                  <a:srgbClr val="ff7c80"/>
                </a:solidFill>
                <a:latin typeface="Minya Nouvel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wilmington__nc.jpg"/>
          <p:cNvPicPr/>
          <p:nvPr/>
        </p:nvPicPr>
        <p:blipFill>
          <a:blip r:embed="rId1"/>
          <a:stretch/>
        </p:blipFill>
        <p:spPr>
          <a:xfrm>
            <a:off x="1870200" y="2049480"/>
            <a:ext cx="5403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I graduated from UNC-Greensboro, where I received my degree in Elementary Educ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uc_ttl.jpg"/>
          <p:cNvPicPr/>
          <p:nvPr/>
        </p:nvPicPr>
        <p:blipFill>
          <a:blip r:embed="rId1"/>
          <a:stretch/>
        </p:blipFill>
        <p:spPr>
          <a:xfrm>
            <a:off x="1657440" y="1630440"/>
            <a:ext cx="5829120" cy="446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NCG_Logo.gif"/>
          <p:cNvPicPr/>
          <p:nvPr/>
        </p:nvPicPr>
        <p:blipFill>
          <a:blip r:embed="rId2"/>
          <a:stretch/>
        </p:blipFill>
        <p:spPr>
          <a:xfrm>
            <a:off x="1676520" y="4495680"/>
            <a:ext cx="1714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I love playing in the snow, and there was a lot of it in Greensboro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DSCN05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I have one lazy house cat named Oliver.  I also rescued a dog from the animal shelter who’s named Jax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291492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love all animals, and plan to volunteer at the Onslow County Animal Shelter so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154.JPG"/>
          <p:cNvPicPr/>
          <p:nvPr/>
        </p:nvPicPr>
        <p:blipFill>
          <a:blip r:embed="rId1"/>
          <a:stretch/>
        </p:blipFill>
        <p:spPr>
          <a:xfrm>
            <a:off x="5638680" y="43434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219560" cy="307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3429000" y="3276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enjoy traveling and try to do it every summ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5" descr="DSCN0663.JPG"/>
          <p:cNvPicPr/>
          <p:nvPr/>
        </p:nvPicPr>
        <p:blipFill>
          <a:blip r:embed="rId1"/>
          <a:stretch/>
        </p:blipFill>
        <p:spPr>
          <a:xfrm>
            <a:off x="378000" y="1447920"/>
            <a:ext cx="236520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PIM2638.JPG"/>
          <p:cNvPicPr/>
          <p:nvPr/>
        </p:nvPicPr>
        <p:blipFill>
          <a:blip r:embed="rId2"/>
          <a:stretch/>
        </p:blipFill>
        <p:spPr>
          <a:xfrm>
            <a:off x="5486400" y="14479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DSCN1328.JPG"/>
          <p:cNvPicPr/>
          <p:nvPr/>
        </p:nvPicPr>
        <p:blipFill>
          <a:blip r:embed="rId3"/>
          <a:stretch/>
        </p:blipFill>
        <p:spPr>
          <a:xfrm>
            <a:off x="5335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221.JPG"/>
          <p:cNvPicPr/>
          <p:nvPr/>
        </p:nvPicPr>
        <p:blipFill>
          <a:blip r:embed="rId4"/>
          <a:stretch/>
        </p:blipFill>
        <p:spPr>
          <a:xfrm>
            <a:off x="3238560" y="1774800"/>
            <a:ext cx="217152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-152280" y="1055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harleston, 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249720" y="6259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New Orleans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553080" y="1143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Washington,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922480" y="1425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New York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5513400" y="3798720"/>
            <a:ext cx="2293920" cy="305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7718400" y="42670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Savannah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7c80"/>
              </a:solidFill>
              <a:latin typeface="Bradley Hand ITC"/>
            </a:endParaRPr>
          </a:p>
        </p:txBody>
      </p:sp>
      <p:pic>
        <p:nvPicPr>
          <p:cNvPr id="78" name="Picture 8" descr="HPIM2418.JPG"/>
          <p:cNvPicPr/>
          <p:nvPr/>
        </p:nvPicPr>
        <p:blipFill>
          <a:blip r:embed="rId1"/>
          <a:stretch/>
        </p:blipFill>
        <p:spPr>
          <a:xfrm>
            <a:off x="380880" y="228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762120" y="3048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ape Cod,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boone.jpg"/>
          <p:cNvPicPr/>
          <p:nvPr/>
        </p:nvPicPr>
        <p:blipFill>
          <a:blip r:embed="rId2"/>
          <a:stretch/>
        </p:blipFill>
        <p:spPr>
          <a:xfrm>
            <a:off x="282600" y="353844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6019920" y="54752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Groton,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maine.jpg"/>
          <p:cNvPicPr/>
          <p:nvPr/>
        </p:nvPicPr>
        <p:blipFill>
          <a:blip r:embed="rId3"/>
          <a:stretch/>
        </p:blipFill>
        <p:spPr>
          <a:xfrm>
            <a:off x="4070520" y="581040"/>
            <a:ext cx="262548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419720" y="195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Portland,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6605640" y="1278000"/>
            <a:ext cx="2538360" cy="3386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6605640" y="936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ape Hatteras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3330720" y="35179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762120" y="6178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Boone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Other activities that interest me would be watching movies, running, reading, and cooking, but most of all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toy-story-3-560x314.jpg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29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brookie\AppData\Local\Microsoft\Windows\Temporary Internet Files\Content.IE5\W0E4ZFUO\MC900447167[1].jpg"/>
          <p:cNvPicPr/>
          <p:nvPr/>
        </p:nvPicPr>
        <p:blipFill>
          <a:blip r:embed="rId2"/>
          <a:stretch/>
        </p:blipFill>
        <p:spPr>
          <a:xfrm>
            <a:off x="762120" y="4494240"/>
            <a:ext cx="1373040" cy="20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SCN2146.JPG"/>
          <p:cNvPicPr/>
          <p:nvPr/>
        </p:nvPicPr>
        <p:blipFill>
          <a:blip r:embed="rId3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"/>
          <p:cNvPicPr/>
          <p:nvPr/>
        </p:nvPicPr>
        <p:blipFill>
          <a:blip r:embed="rId4"/>
          <a:stretch/>
        </p:blipFill>
        <p:spPr>
          <a:xfrm>
            <a:off x="6943680" y="1447920"/>
            <a:ext cx="2059200" cy="321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3:47:22Z</dcterms:created>
  <dc:creator>brookie</dc:creator>
  <dc:description/>
  <dc:language>en-US</dc:language>
  <cp:lastModifiedBy>Brooke</cp:lastModifiedBy>
  <dcterms:modified xsi:type="dcterms:W3CDTF">2014-07-15T22:42:07Z</dcterms:modified>
  <cp:revision>27</cp:revision>
  <dc:subject/>
  <dc:title>All About Ms. Bat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9169990</vt:lpwstr>
  </property>
</Properties>
</file>